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2C5-798D-4ED5-8B39-949C1DC1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F4A-7C51-4AA2-AEDE-209F847D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45D-91AD-4338-A2E4-5AE85BB8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217-A650-42BF-B9D1-F29A054F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D477-C685-4B90-8626-E0FE49BD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505-0803-47E2-B5DA-710570A8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AEF-56F4-4F99-8F6B-5CE014A7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D3C-20E6-43FD-A528-04024AEB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81F-3E32-448F-B955-BB69796C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710-1959-4064-9A4D-33A7F014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B03-6C5B-46D4-A8D5-3D4BC641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9E6-4254-48DB-AFF1-DD71F5C1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9244-1AE8-41FA-B026-3079A0F7A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88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Brady Bunch"/>
              </a:rPr>
              <a:t>Cost afal a phensil yw 60c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400" spc="-1" strike="noStrike">
                <a:solidFill>
                  <a:srgbClr val="000000"/>
                </a:solidFill>
                <a:latin typeface="Brady Bunch"/>
              </a:rPr>
              <a:t>Cost 5 afal a pensil yw £1.00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200" spc="-1" strike="noStrike">
                <a:solidFill>
                  <a:srgbClr val="000000"/>
                </a:solidFill>
                <a:latin typeface="Brady Bunch"/>
              </a:rPr>
              <a:t>Beth yw cost pensil?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200" spc="-1" strike="noStrike">
                <a:solidFill>
                  <a:srgbClr val="000000"/>
                </a:solidFill>
                <a:latin typeface="Brady Bunch"/>
              </a:rPr>
              <a:t>Beth yw cost afal?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586640" y="3662280"/>
            <a:ext cx="1449360" cy="1135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>
            <a:grayscl/>
          </a:blip>
          <a:stretch/>
        </p:blipFill>
        <p:spPr>
          <a:xfrm rot="10800000">
            <a:off x="-360" y="3499920"/>
            <a:ext cx="147780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0:08:22Z</dcterms:created>
  <dc:creator>Betsan Wyn Thomas</dc:creator>
  <dc:description/>
  <dc:language>en-US</dc:language>
  <cp:lastModifiedBy>Betsan Wyn Thomas</cp:lastModifiedBy>
  <dcterms:modified xsi:type="dcterms:W3CDTF">2008-09-09T21:08:50Z</dcterms:modified>
  <cp:revision>2</cp:revision>
  <dc:subject/>
  <dc:title>Slide 1</dc:title>
</cp:coreProperties>
</file>